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C3D-B78F-480A-B37E-5715959E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C59-641C-46F1-A853-6B6425F0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61C2-59EC-4036-AD20-972B754C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AEF-7E61-4545-8FFA-C40790BF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C6B-B1F4-4E94-AE55-278B6E01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034-36CC-4DDE-8EB7-695D32DC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502A-B5A1-49FD-8ECA-8400A5F7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205-3478-4A8B-BF2C-367692C7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7E5-50B7-430C-AB90-D60E77BC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649-F089-45C0-8614-CB5983B4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604-79A6-45EB-87F4-0C4D7840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5B3-4F92-43CF-B3CA-9F55D9C7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4BC6-8190-4E57-B751-0743E9398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римера  многотабличной формы рассмотрим создание сводной табл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этого в окне «База данных» нажмем кнопку «Создать» и получим ок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61894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82184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Отчет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объект, который предназначен для печати данных в определенном пользователем виде. Отчет позволяет сгруппировать записи, подсчитать и вывести как промежуточные, так и полные итоговые значения. Отчет можно оформить, используя разнообразие шрифтов Windows, а также украсив его рисунками и диаграм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59280" y="260280"/>
            <a:ext cx="287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че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еется возможность создавать автоотчеты. Для этого на панели слева выберем «Отчеты», а на панели сверху «Создать», получ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627280" y="260280"/>
            <a:ext cx="381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отче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567160"/>
            <a:ext cx="63961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2276280"/>
            <a:ext cx="44956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рав «Автоотчеты: в столбец», получа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9920" y="836640"/>
            <a:ext cx="4195800" cy="6021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627280" y="0"/>
            <a:ext cx="381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отче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и в предыдущем случае, нажав кнопку «Создать» вы получите окно «Новый отчет». Выберем теперь в этом окне «Мастер отчетов» и не забудем выбрать источник дан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79640" y="2693880"/>
            <a:ext cx="626112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ираем поля для отчета из таблицы или запро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32000" y="1755720"/>
            <a:ext cx="6769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аш отчет многотабличный, то вы можете выбрать также поля из другой таблиц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76360" y="1903320"/>
            <a:ext cx="663588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ираем вид представления данных (какие данные основные, а какие зависимые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19280" y="1868400"/>
            <a:ext cx="66358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авляем уровни группировки (если необходимо группировать еще по какому-нибудь полю кроме «деканата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627280" y="2022480"/>
            <a:ext cx="65167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лее выбираем порядок сортировки данных (сортировать можно по одному полю а можно и по 2-4 полям). Если необходимо посчитать итоги, то нажимаем кнопку «Итог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50920" y="2284560"/>
            <a:ext cx="60595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метим, что окно для вычисления итогов в данной базе одинаковое, как для запросов, так и для отч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0920" y="1967040"/>
            <a:ext cx="648180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вается мастер создания сводной таблицы и в первом окне содержится информация о том, как создается сводная таблиц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2741760"/>
            <a:ext cx="649116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выбираем вид мак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1711440"/>
            <a:ext cx="692316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ом выбираем стиль отч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01920"/>
            <a:ext cx="7210440" cy="53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дим имя отч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555920"/>
            <a:ext cx="713916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50920" y="260280"/>
            <a:ext cx="482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стер отче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9593" t="0" r="9593" b="0"/>
          <a:stretch/>
        </p:blipFill>
        <p:spPr>
          <a:xfrm>
            <a:off x="900000" y="853920"/>
            <a:ext cx="752472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кне «Новый отчет» выберем «Конструктор», а также зададим источник данных (таблицу или запро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5280" y="260280"/>
            <a:ext cx="82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отчетов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35280" y="2612880"/>
            <a:ext cx="63338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работаем также, как и в конструкторе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носим все нужные поля, форматируем, задаем заголовок, оформля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260280"/>
            <a:ext cx="82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отчетов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3056040"/>
            <a:ext cx="914400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яем полученный от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260280"/>
            <a:ext cx="82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отчетов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3338640"/>
            <a:ext cx="74311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95280" y="260280"/>
            <a:ext cx="828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отчетов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03280" y="865080"/>
            <a:ext cx="677880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тором окне выбираем поля для сводной таблицы (причем эти поля могут быть из разных таблиц). Возьмем для начала поля из таблицы «Студенты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2619360"/>
            <a:ext cx="6635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затем добавим к ним поля из таблицы «Студенты5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2611440"/>
            <a:ext cx="66355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им следующую форму для сводной таблицы, где надо правильно расположить выбранные по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чего берем поле левой кнопкой мыши, из окна «Список полей сводной таблицы», и переносим в нужное положение на фор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55640" y="2448000"/>
            <a:ext cx="82090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того, как все поля будут помещены на форму, вы увидите следующий результ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655720"/>
            <a:ext cx="914400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рывая полученную форму, вы увидите предложение ее сохран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76360" y="3352680"/>
            <a:ext cx="67867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547640" y="260280"/>
            <a:ext cx="60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табличная фор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961920"/>
            <a:ext cx="79311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4:43:15Z</dcterms:created>
  <dc:creator>ershov</dc:creator>
  <dc:description/>
  <dc:language>en-US</dc:language>
  <cp:lastModifiedBy>ershov</cp:lastModifiedBy>
  <dcterms:modified xsi:type="dcterms:W3CDTF">2008-11-14T04:34:00Z</dcterms:modified>
  <cp:revision>3</cp:revision>
  <dc:subject/>
  <dc:title>Слайд 1</dc:title>
</cp:coreProperties>
</file>