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7C54-6363-472E-9AA1-6DB99CDE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2C5-4682-4D7E-8657-109C200F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2E0-3AF2-4DF1-BCF4-B12FCB6C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625-314E-4B38-A881-AB9650BD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5ED7-903C-4F84-A535-94DF90CB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75C1-A49C-4ABB-B355-C9953B0B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92B-F976-43B1-90DD-E8047E7D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57D3-07DF-4947-AD09-887CAF6F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3C3-17C2-4663-91D3-E743100E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591-27B4-4D1F-87D0-A66C7E74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33F-9270-4354-A285-F1BBEBAA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5279-2F9F-41FF-A2A0-894D3D28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9A7A-4476-4651-967D-9F4AF4323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и между таблицами являются необходимым элементом структуры БД. Для того, чтобы связь была возможна, таблицы должны иметь общие поля. Чаще всего в одной таблице для связи используется ключ, а в другой таблице это поле не является ключом и называется "внешним ключом". Например, для сопоставления сведений о студентах и о соответствующих им деканатах, следует определить связь по полю "Код" в двух таблицах: СТУДЕНТЫ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ФИО, и т.д.) и СТУДЕНТЫ5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ФИО, ФИО_декана и т.д.). В первой таблице общее поле является ключом, а во второй - внешним ключ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92360" y="18900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язи между таблицам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686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дим «Простой запрос», который из БД будет выводить только, экзаменационную ведомость, т.е. ФИО студентов и их оценки по предме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3640" y="2803680"/>
            <a:ext cx="6588360" cy="405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рост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691920"/>
            <a:ext cx="86043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вается мастер запросов, при помощи которого и создаем нужный нам за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из БД Студенты5 выберем столбц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а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О_де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фон_декан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из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уденты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О_замде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жим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у «Дале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76360" y="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рост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16360" y="1916280"/>
            <a:ext cx="622764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ем имя нашему запросу и нажимаем «Гото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рост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6130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рост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87280" y="871560"/>
            <a:ext cx="749952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258920" y="26028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в конструктор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58920" y="932040"/>
            <a:ext cx="740412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58920" y="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в конструктор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916360" y="692280"/>
            <a:ext cx="41526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686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Форм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объект, служащий для ввода, изменения и просмотра записей в удобном и приятном для пользователя виде на экране или при печати данных из БД. Форма может содержать данные из одной или нескольких взаимосвязанных таблиц, а также не связанные с таблицами данные. Для описания формы используется методика визуального программ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68360" y="333360"/>
            <a:ext cx="4391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создания формы нажмем кнопку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Фор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в окне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база данн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и получ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68360" y="333360"/>
            <a:ext cx="4391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649152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панели инструментов нажимаем кнопку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озд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, получаем окно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овая фор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4360" y="33336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масте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63640" y="2894040"/>
            <a:ext cx="596916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«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проса_на_выбор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возьмем все поля и создадим по этому запросу фор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4360" y="33336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масте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08000" y="2409840"/>
            <a:ext cx="59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того, как определены поля для связи, следует оценить тип свя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ношение "один-ко-многим"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ется наиболее часто используемым типом связи между таблицами. Например, между таблицами "Студенты5” и «Студенты" существует отношение "один-ко-многим": к каждому деканату может относиться несколько различных студентов, но за каждого студента  отвечает один конкретный замдек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язи между таблица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видно из рисунка, есть несколько видов разных форм. Выберем для примера «ленточный» и посмотрим результа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4360" y="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масте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92360" y="2355840"/>
            <a:ext cx="598644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ледующем окне выбираем оформление нашей фор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масте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050920" y="2400480"/>
            <a:ext cx="591516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ем имя фор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40464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масте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19280" y="2355840"/>
            <a:ext cx="598644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зультате получаем форму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масте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2924280"/>
            <a:ext cx="677736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тим, что в окне «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вая фо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есть пять автоформ. Попробуем создать «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втоформу: в столбе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Для создания автоформ надо сразу выбирать таблицу или запрос по которым будет создаваться автоформа. Мы выберем таблицу «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туд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автофор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47640" y="2917800"/>
            <a:ext cx="59025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нажатия кнопки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вы сразу получаете фор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автофор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40000" y="2727360"/>
            <a:ext cx="505440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6840" y="1915920"/>
            <a:ext cx="79311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пытке закрыть форму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ас спросит, желаете ли вы ее сохран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автофор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800244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8598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ы нажали кнопку «Да» в предыдущем окне, то получите возможность задать имя авто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автофор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3333600"/>
            <a:ext cx="75643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8930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оздании формы конструктором в окне «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Новая фор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 выбираем «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Конструкт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, а также таблицу или запрос по которым будет создаваться фор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835280" y="2725560"/>
            <a:ext cx="618948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вается конструктор формы. Ваша задача расположить поля таблицы в нужных позициях на форме и задать их размеры, все это выполняется также как работа с рисунками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2959200"/>
            <a:ext cx="7283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2060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шение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"многие-ко-многим"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ся только с помощью третьей таблицы, ключ которой состоит из ключевых полей тех таблиц, которые необходимо связать. Например, между таблицами «Студенты5" и «Студенты" имеется отношение "многие-ко-многим", которое реализовано с помощью дополнительной таблицы «Студенты6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язи между таблица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зультате получим форму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2894040"/>
            <a:ext cx="793116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задания заголовка форме, на строке «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бласть дан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 щелкнем правой кнопкой мыши и выберем в контекстном меню «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Заголовок/примечание фор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2881440"/>
            <a:ext cx="807552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им область для задания заголов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2886120"/>
            <a:ext cx="800244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на панели инструментов нажмем кнопку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анель элемент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1280" y="2894040"/>
            <a:ext cx="80755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омощи кнопки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адпис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, вставляем надпись заголовка ф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2998800"/>
            <a:ext cx="82184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2411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производим оформление формы при помощи контекстного меню и панели инструментов «Форматиро-вание» и получаем форму ви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67327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2204640"/>
            <a:ext cx="8147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перь закрываем конструктор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лагает сохранить форму, нажимаете кнопку «Д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814716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ем имя форме. И теперь для просмотра полученной формы вызываем форму из окна «База данных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26028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16000" y="3338640"/>
            <a:ext cx="71420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84360" y="0"/>
            <a:ext cx="784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формы конструкт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19280" y="831960"/>
            <a:ext cx="648648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рассмотрим добавление переключателей в форму, в режиме конструктора. Для этого в окне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овая фор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выбираем строчку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Конструкт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и запрос по которому он созд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8000" y="2933640"/>
            <a:ext cx="59025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ношение "один-к-одному"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м случае каждая запись в одной таблице может быть связана только с одной записью в другой таблице и наоборот. Этот тип связи используют редко, поскольку такие данные могут быть помещены в одну таблицу. Например, такую связь используют для разделения очень широких таблиц, для отделения части таблицы по соображениям защиты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язи между таблица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-360" y="1052640"/>
            <a:ext cx="88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аем форму для заполнения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16000" y="1832040"/>
            <a:ext cx="7570800" cy="4960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29163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и в предыдущем примере заполняем эту форму и оформляем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16360" y="1125360"/>
            <a:ext cx="6227640" cy="5392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2924280"/>
            <a:ext cx="54100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панели инструментов отключаем кнопку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Маст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2000160" cy="3816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2349000"/>
            <a:ext cx="6491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нажимаем кнопку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Групп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ереключател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, а затем из списка полей переносим на форму поле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о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216920" y="907920"/>
            <a:ext cx="1927080" cy="5950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23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зультате на форме получаем рамку для группы переключа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81200" y="981000"/>
            <a:ext cx="6562800" cy="5637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2205000"/>
            <a:ext cx="67071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установим два переключателя в полученную рамку. Для чего нажимаем на панели инструментов кнопку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ереключате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, а затем щелкаем мышкой в том месте на форме, где он должен бы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772400" y="765000"/>
            <a:ext cx="1371600" cy="6093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3276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аем группу переключателей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надо настроить свойства этих переключа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76720" y="1754280"/>
            <a:ext cx="5867280" cy="499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2195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настройки свойств, вызываем контекстное меню для конкретного переключателя, в данном случае второго, и задаем «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им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 переключателя и «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зна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арамет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195640" y="1436760"/>
            <a:ext cx="6948360" cy="5421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378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первого переключателя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им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будет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, а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знач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арамет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-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. После чего переименовываем переключатели на форме и получа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765600" y="1268280"/>
            <a:ext cx="5414760" cy="5589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им нашу форму под именем «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Ведом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3338640"/>
            <a:ext cx="7573680" cy="2493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я определения связей между таблицами следу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ыть все открытые таблицы и выполнить команду меню \Сервис\Схема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ить таблицы в окно “Схема данных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нести с помощью мыши ключевое поле одной таблицы в другу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тип связи (1:1, 1:М, М:1) (двойной щелчок по линии связи открывает окно определения типа связ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льзя изменить тип данных для поля, которое связывает таблицу с другой таблицей. Предварительно нужно удалить установленную 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язи между таблица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2916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езультате получим форму, на которой выбор пола задан переключа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987640" y="1049400"/>
            <a:ext cx="6156360" cy="5808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68360" y="18900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авление в форму переключат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язи между таблица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047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язи между таблица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699444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язи между таблица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1023840"/>
            <a:ext cx="83534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кне «База данных» нажмем кнопку «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За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оздания запроса на панели инструментов окна выберем «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озд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1280" y="2325600"/>
            <a:ext cx="6301080" cy="4532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рост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3:00:20Z</dcterms:created>
  <dc:creator>ershov</dc:creator>
  <dc:description/>
  <dc:language>en-US</dc:language>
  <cp:lastModifiedBy>ershov</cp:lastModifiedBy>
  <dcterms:modified xsi:type="dcterms:W3CDTF">2008-10-31T07:05:34Z</dcterms:modified>
  <cp:revision>8</cp:revision>
  <dc:subject/>
  <dc:title>Слайд 1</dc:title>
</cp:coreProperties>
</file>