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294-C752-4AE2-8BA3-01AFA64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BCE-9C78-4A18-B630-688B477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C7D-6436-4139-B599-64F34850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CFD-4E09-4B45-B0CF-8B3FFDFD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68B-5A83-45D6-8FAB-80DE6122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5C7-2E28-429D-892C-F846B03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1C2-BB98-4650-9A33-E36A7B84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D66-36AB-4C99-AAC9-D065D80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201-4353-481A-85E0-95E27391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FBF-2325-4352-8697-5D9690D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C11-F41B-4DD0-A7E4-F39F39DE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E72-E5D2-451F-9B48-655C296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307-488E-4F39-9DCD-A54F9D77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бъекты, извлекающие данные из таблиц так, как это определено пользовате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омощью запроса можно выбрать, изменить или сгруппировать какие-либо данные, содержащиеся в одной или нескольких таблицах. Ответ на запрос также выглядит в виде таблицы и называ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намическим набором запис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Когда пользователь изменяет данные динамического набора, то эти изменения тут же производятся в таблиц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2360" y="1890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росы в Acces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 мастера запросов, выберем пункт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тог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нажмем кноп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тоги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2090880"/>
            <a:ext cx="6347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ю ваше внимание на то, что подсчитать мы можем Сумм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редний бал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Максим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Мин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i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ам 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сред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л,     его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32000" y="2341440"/>
            <a:ext cx="6012000" cy="451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оследнем окне задаем имя запроса и нажимаем «Готово». В результате получа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а создания запроса на повторяющиеся записи, такое же, как и в предыдущих случаях, но только в окне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ыбира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вторяющие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03280" y="3033720"/>
            <a:ext cx="62150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ом окне мастера данного запроса, выбираем таблицу или запрос, в которых будем искать повторяющиеся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048040"/>
            <a:ext cx="69487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тором окне, задаем поля содержащие повторяющиеся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2138400"/>
            <a:ext cx="6778440" cy="4719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ретьем окне выбираем поля которые необходимо вывести вместе с выбранным, во втором окне, п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47640" y="2286000"/>
            <a:ext cx="663588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560" y="1412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запроса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2128680"/>
            <a:ext cx="6851520" cy="4729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819000"/>
            <a:ext cx="8459640" cy="603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поиск повторяющихся запис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ем 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ов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строч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ерекрест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927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кне «База данных» нажмем кнопку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запроса на панели инструментов окна выберем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325600"/>
            <a:ext cx="6301080" cy="4532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ом окне выбираем таблицу (запрос) для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97200" y="2025720"/>
            <a:ext cx="6346800" cy="4832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ерем поля, значения которых станут заголовками строк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2165400"/>
            <a:ext cx="6202440" cy="4692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ыбираем заголовки, для столбцов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63640" y="1851120"/>
            <a:ext cx="6588360" cy="500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выбираем тип вычислений для соотношения наших элементов (в нашем случае интересует просто «Число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2003400"/>
            <a:ext cx="6418440" cy="4854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95280" y="1412640"/>
            <a:ext cx="432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32000" y="2077920"/>
            <a:ext cx="627516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тоге мы видим сколько и какую стипендию получают военнообязанные и все прочие студ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826920" y="26028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ерекрестн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8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Ба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д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на панели инструментов выберем кноп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292480"/>
            <a:ext cx="6346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вается окно конструктора запросов, но перед началом работы надо выбрать таблицы и запросы по которым будет производиться построение нового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9144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мощи данного запроса получим ведомость оценок на всех мальчиков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9564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этого перенесем нужные поля в строку «Поле» конструктора, а выборку будем осуществлять по полю «Пол». Для этого в строке «Вывод на экран» уберем флажок, чтобы  это поле не отображалось в полученном запр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409920"/>
            <a:ext cx="9144000" cy="344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«Простой запрос», который из БД будет выводить только, экзаменационную ведомость, т.е. ФИО студентов и их оценки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2803680"/>
            <a:ext cx="6588360" cy="405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в строке «Условие отбора» для поля «Пол» щелкнем правой кнопкой мышки и выберем пункт «Построить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2820960"/>
            <a:ext cx="7283520" cy="403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окно «Построение выражения». В верхней части окна поле для построения выражения, под ним возможные логические и арифметические знаки, а также поля для выбора таблиц, форм, функц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2892600"/>
            <a:ext cx="6923160" cy="3965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ем список таблиц и выберем нашу таблицу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во втором окне появятся поля данной таблицы из которых двойным щелчком выберем поле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В знаках выберем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аве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далее наберем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2808360"/>
            <a:ext cx="7139160" cy="404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сохраним наш запрос (при помощи меню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Файл\Сохран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кнопк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хран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анели инструментов). И закроем констру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6499080" cy="219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осмотра запроса, найдем его в окне «База данных» и вызовем двойным щелчком мы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2373480"/>
            <a:ext cx="6923160" cy="4484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920880"/>
            <a:ext cx="7894800" cy="5937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0" y="260280"/>
            <a:ext cx="914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выборку конструкто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дим запрос на обновление, при помощи которого каждому военнообязанному студенту получающему стипендию будет добавлено 20% к имеющейся стипендии. Построение осуществляется при помощи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онструк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400720" cy="3322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277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овем конструктор, а затем в меню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ли при помощи Кнопки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на панели инструментов выбер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бно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27280" y="1028880"/>
            <a:ext cx="6516720" cy="552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ожно увидеть появляется строка «Обновление». Теперь переносим поле «стипендия» и в строке обновление, при помощи контекстного меню вызываем «Построить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2905200"/>
            <a:ext cx="8218440" cy="389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яем выражение, которое увеличит нашу стипендию на 20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2703600"/>
            <a:ext cx="6994440" cy="4014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86043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ется мастер запросов, при помощи которого и создаем нужный нам за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з БД Студенты выберем столб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_меха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ч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жим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«Дал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914480"/>
            <a:ext cx="6516720" cy="490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76360" y="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стипендию надо увеличить только военнообязанным, для этого в строке «Условие отбора» вызываем «Построить…» и заполняем следующе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3013200"/>
            <a:ext cx="6635880" cy="3844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340000" y="1600200"/>
            <a:ext cx="41767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наш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3348000"/>
            <a:ext cx="7358040" cy="2379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просмотрим таблицу до обн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1703520"/>
            <a:ext cx="6635880" cy="515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этого запустим запрос на обно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запросы производящие изменения в наших исходных таблицах, спрашивают подтверждение на изм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7643880" cy="2332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разрешения на изменения вам будет сообщено какое количество записей подвергнется изме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8002800" cy="246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004760"/>
            <a:ext cx="7570800" cy="5888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58920" y="260280"/>
            <a:ext cx="72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запроса на обнов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дим таблицу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в которой будут поля: ФИО, Математика, Теор_механика, Черчение, Информатика, Стипендия, Военнообязанный. Для этого вызовем «Конструктор», в который вызовем таблицы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уденты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а затем в меню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выберем 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з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блицы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явившемся окне зададим имя для новой 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8362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просто перенесем все нужные поля в строк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3280" y="2770200"/>
            <a:ext cx="7283520" cy="3941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844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м запр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том запустим его из 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7426440" cy="2452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опять увидите предупреждение об измен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06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6756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создаем простой запрос, поэтому выбираем подробную выдачу каждого поля, каждой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1914480"/>
            <a:ext cx="6562800" cy="494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42920" y="1988640"/>
            <a:ext cx="7561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общение о количестве 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3289320"/>
            <a:ext cx="8291520" cy="2355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лась новая таблица. Теперь ее можно посмот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47640" y="2244600"/>
            <a:ext cx="6491520" cy="461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5502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755640" y="260280"/>
            <a:ext cx="770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создание новой табл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ов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с новой таблицей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уденты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 меню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брать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даление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4360" y="3687840"/>
            <a:ext cx="7643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362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ок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да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вызыва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троить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 окне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остро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ыра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удалим всех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оеннообяза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6778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68360" y="1599840"/>
            <a:ext cx="5112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яем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47640" y="3343320"/>
            <a:ext cx="6720120" cy="2179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запускаем запрос на удаление из окна «База данных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58920" y="2368440"/>
            <a:ext cx="6275520" cy="4489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ем стандартное сообщение об изменениях в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26920" y="3403440"/>
            <a:ext cx="7859880" cy="1785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общение о количестве удаляемых запис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360" y="3103560"/>
            <a:ext cx="7210440" cy="2712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2425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619280" y="26028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ос на удал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ем имя нашему запросу и нажимаем «Готов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2079720"/>
            <a:ext cx="6443640" cy="47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ываем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нструк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и выбираем таблицу 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туденты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3092400"/>
            <a:ext cx="8218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686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ираем поля для запроса. А на против поля параметра в строке «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словие отбора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 вместо условия, записываем вопрос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квадратных скобк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который будет появляться в параметрическом ок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71640" y="2593800"/>
            <a:ext cx="7715160" cy="4264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можем запустить запрос кнопкой «Запуск» на панели инструментов. Или сохранить запрос, а затем запустить его из окна «База дан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3338640"/>
            <a:ext cx="88200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открывается параметрическое окно в котором вы видите вопрос о содержимом поля. В данном случае вы должны ответить являются ли интересующие вас люди военнообязанными или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ем «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5133960" cy="2389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получаем таблицу, со списком всех военнообязанных и их стипенд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3059280"/>
            <a:ext cx="5826240" cy="3798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611280" y="260280"/>
            <a:ext cx="770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араметрическ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25560"/>
            <a:ext cx="7210440" cy="593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прост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дим запрос, вычисляющий средний балл по пред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го вызовем простой за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3298680"/>
            <a:ext cx="57830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вычисления среднего балла по предметам, достаточно из БД «Студенты» выбрать только поля с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79640" y="2468520"/>
            <a:ext cx="5843520" cy="438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476360" y="26028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здание итогового запрос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0:20Z</dcterms:created>
  <dc:creator>ershov</dc:creator>
  <dc:description/>
  <dc:language>en-US</dc:language>
  <cp:lastModifiedBy>ershov</cp:lastModifiedBy>
  <dcterms:modified xsi:type="dcterms:W3CDTF">2008-10-16T15:55:36Z</dcterms:modified>
  <cp:revision>5</cp:revision>
  <dc:subject/>
  <dc:title>Слайд 1</dc:title>
</cp:coreProperties>
</file>